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5A5-FB25-4CB3-9E71-F2709E13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FC75-AFC2-4B44-A500-8CDB3CFE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0FB6-BB82-4ADC-AFD2-724718FA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97A2-A335-458D-AB5F-61D6C7CE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A3F4-4540-4C65-A350-21EBB63C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A1D-84BA-411B-BDCA-66762D92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F48-A670-4FA7-8AE7-1DEDE677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84D-6C60-434E-B443-FBC00E24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2A7-4596-470F-9CD1-967FBB5E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67DC-66A0-4D7A-AF71-C403C0C3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2D3A-96B4-4C10-AD7F-DE501FFA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2934-E4BD-4034-886C-C2740F84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DB65-D7A2-4227-B37D-B5D40DD18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erlin Sans FB Demi"/>
              </a:rPr>
              <a:t>Ich schlage vor dass ich nach Österreich fah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14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Berlin Sans FB Demi"/>
              </a:rPr>
              <a:t>Anneliese Tim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228600" y="1982880"/>
            <a:ext cx="2604960" cy="155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6324480" y="3832200"/>
            <a:ext cx="2606760" cy="2309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3"/>
          <a:stretch/>
        </p:blipFill>
        <p:spPr>
          <a:xfrm>
            <a:off x="2514600" y="2362320"/>
            <a:ext cx="42958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1676520" y="6173640"/>
            <a:ext cx="4971960" cy="427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2"/>
          <a:srcRect l="0" t="0" r="0" b="7402"/>
          <a:stretch/>
        </p:blipFill>
        <p:spPr>
          <a:xfrm>
            <a:off x="3048120" y="304920"/>
            <a:ext cx="5257800" cy="2560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3"/>
          <a:srcRect l="0" t="0" r="2816" b="7724"/>
          <a:stretch/>
        </p:blipFill>
        <p:spPr>
          <a:xfrm>
            <a:off x="3048120" y="3070080"/>
            <a:ext cx="5257800" cy="26892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"/>
          <p:cNvSpPr/>
          <p:nvPr/>
        </p:nvSpPr>
        <p:spPr>
          <a:xfrm>
            <a:off x="380880" y="609480"/>
            <a:ext cx="228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Berlin Sans FB"/>
              </a:rPr>
              <a:t>Ich farhe nach Ti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Berlin Sans FB"/>
              </a:rPr>
              <a:t>Ich farhe nach Innsbruck von Chicago mit dem Flugze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685800" y="1752480"/>
            <a:ext cx="4648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Ich bleibe in eine Pension nach Innsbruck. Diese Pension hat eine Liegeweise und einen Fitnessraum. Es hat auch eine Garten hinter die Pen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5573880" y="952560"/>
            <a:ext cx="3333600" cy="285732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609480" y="571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Berlin Sans FB Demi"/>
              </a:rPr>
              <a:t>Hotel-Pension Sonnenh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14880" y="6170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Es kostet $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706320" y="4219560"/>
            <a:ext cx="7732800" cy="1600200"/>
            <a:chOff x="706320" y="4219560"/>
            <a:chExt cx="7732800" cy="1600200"/>
          </a:xfrm>
        </p:grpSpPr>
        <p:pic>
          <p:nvPicPr>
            <p:cNvPr id="55" name="Picture 9" descr=""/>
            <p:cNvPicPr/>
            <p:nvPr/>
          </p:nvPicPr>
          <p:blipFill>
            <a:blip r:embed="rId2"/>
            <a:srcRect l="11763" t="0" r="0" b="0"/>
            <a:stretch/>
          </p:blipFill>
          <p:spPr>
            <a:xfrm>
              <a:off x="706320" y="4219560"/>
              <a:ext cx="773280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3"/>
            <p:cNvSpPr/>
            <p:nvPr/>
          </p:nvSpPr>
          <p:spPr>
            <a:xfrm>
              <a:off x="7183440" y="5362560"/>
              <a:ext cx="1066680" cy="304560"/>
            </a:xfrm>
            <a:prstGeom prst="rect">
              <a:avLst/>
            </a:prstGeom>
            <a:noFill/>
            <a:ln w="572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0520" y="16002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Ich gehe zur Reisenrundgemälde bei dem Flu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Ich gehe in die Kirche gegenüber dem Gar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Ich gehe zum Alpenz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Ich gehe im Museum für die Kun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Ich sehe das Ambros Schlo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433760" y="187200"/>
            <a:ext cx="4405320" cy="316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4494240" y="3429000"/>
            <a:ext cx="4268880" cy="31719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380880" y="558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Nach Innsbruc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Berlin Sans FB Demi"/>
              </a:rPr>
              <a:t>Dann farhe ich nach St. Johann mit der Bah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rcRect l="3126" t="59518" r="44240" b="34016"/>
          <a:stretch/>
        </p:blipFill>
        <p:spPr>
          <a:xfrm>
            <a:off x="326880" y="2743200"/>
            <a:ext cx="8313840" cy="765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3086280" y="487692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Es kostet etwa $253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rcRect l="3359" t="62505" r="33677" b="30600"/>
          <a:stretch/>
        </p:blipFill>
        <p:spPr>
          <a:xfrm>
            <a:off x="326880" y="3600360"/>
            <a:ext cx="85759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http://reiseauskunft.bahn.de/bin/query2.exe/dn?ld=9647&amp;seqnr=25&amp;ident=i6.01450947.1326001418&amp;rt=1&amp;performGis=1&amp;REQ0JourneyStopsM=0&amp;REQMap24Output=IMAGEFILE&amp;REQMap24Task=RECALL&amp;"/>
          <p:cNvPicPr/>
          <p:nvPr/>
        </p:nvPicPr>
        <p:blipFill>
          <a:blip r:embed="rId1"/>
          <a:stretch/>
        </p:blipFill>
        <p:spPr>
          <a:xfrm>
            <a:off x="663480" y="380880"/>
            <a:ext cx="5878440" cy="587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4334040" y="3581280"/>
            <a:ext cx="3981240" cy="3124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5181480" y="5143680"/>
            <a:ext cx="685800" cy="495000"/>
          </a:xfrm>
          <a:prstGeom prst="rect">
            <a:avLst/>
          </a:prstGeom>
          <a:noFill/>
          <a:ln w="5724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rcRect l="11576" t="0" r="0" b="0"/>
          <a:stretch/>
        </p:blipFill>
        <p:spPr>
          <a:xfrm>
            <a:off x="343080" y="4267080"/>
            <a:ext cx="8458200" cy="176544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995400" y="1905120"/>
            <a:ext cx="39625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Dann nach St. Johann, bleibe ich in einem Hotel. Das hotel hat eine Sauna. Ich esse ins Restaurant in deisem Hotel und es gibt einen Bibliothek über der Restaur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5257800" y="1066680"/>
            <a:ext cx="3333600" cy="285768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995400" y="882720"/>
            <a:ext cx="57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Berlin Sans FB Demi"/>
              </a:rPr>
              <a:t>Hotel Fis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3733920" y="62485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Es kostet $2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04920" y="144792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Ich wandre auf der Al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Ich sehe der Brunnen neben den Marktpla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Ich fahre den Bergbahnen durch die Ber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Ich fahre S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Berlin Sans FB"/>
              </a:rPr>
              <a:t>Ich gehe einkaufen in kleinen Lä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4373280" cy="3276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380880" y="6094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Nach St. Johan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erlin Sans FB Demi"/>
              </a:rPr>
              <a:t>Es koste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920" y="23619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Berlin Sans FB Demi"/>
              </a:rPr>
              <a:t>$1012.30 + $356 + $253.86 + $298 + $100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2819520" y="35812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Berlin Sans FB Demi"/>
              </a:rPr>
              <a:t>$2920.7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1409760" y="19162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Berlin Sans FB"/>
              </a:rPr>
              <a:t>Fluzeug Karte + Pension + 2 Bahn Karten + Hotel + Extr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7:11:37Z</dcterms:created>
  <dc:creator>CUSD220</dc:creator>
  <dc:description/>
  <dc:language>en-US</dc:language>
  <cp:lastModifiedBy>Claire Timlin</cp:lastModifiedBy>
  <dcterms:modified xsi:type="dcterms:W3CDTF">2012-01-10T03:51:18Z</dcterms:modified>
  <cp:revision>38</cp:revision>
  <dc:subject/>
  <dc:title>Slide 1</dc:title>
</cp:coreProperties>
</file>